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B1B-0C37-4DB3-97AC-775F1D10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B12-1B31-4F21-9E70-E06855C6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979-336A-430E-BC2E-976208A7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67D-3F28-4566-A52B-DE26E6A1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D5E8-46CC-4578-B915-20790B4A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76C6-1392-4B26-8BFB-749C1602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B96D-B626-41CA-A57C-9B3D9A6A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D85E-0C12-4077-BB1F-27215229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CE3F-AF49-4B50-AF4E-7E8A0AEF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3488-2CAF-4D5B-86E8-98979886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DB2D-D6FC-48B4-844B-C626971B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30A-6966-4D31-A0D0-C9AA049B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B061-B185-44F9-8F71-4A1AE56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3C05-6110-4016-9FDD-A5167631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D755-440F-457F-8B3C-C1CE2E1D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EA1D-B83A-4CF0-956D-CB3D2DA7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ABE9-24C6-40D8-AD7F-622492EF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EA7-DA58-4B0C-AE92-DC4230DD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F3D-95E0-4D22-AF16-6AD29393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ED5-62E2-4F06-BEA2-CD60773D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D93-8C36-437E-A441-477F2607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25B-ACF5-4767-8EBC-E7BE669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2FC-AC4B-4D5A-95BB-991D594F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7E8-FE4A-4801-8DE0-DAB51529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182880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2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4"/>
            <p:cNvPicPr/>
            <p:nvPr/>
          </p:nvPicPr>
          <p:blipFill>
            <a:blip r:embed="rId5"/>
            <a:stretch/>
          </p:blipFill>
          <p:spPr>
            <a:xfrm>
              <a:off x="810108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Picture 8" descr="ti"/>
          <p:cNvPicPr/>
          <p:nvPr/>
        </p:nvPicPr>
        <p:blipFill>
          <a:blip r:embed="rId7"/>
          <a:stretch/>
        </p:blipFill>
        <p:spPr>
          <a:xfrm>
            <a:off x="1066680" y="1219320"/>
            <a:ext cx="7010640" cy="87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1FB3-554A-4012-9062-99A6D229A4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4960" y="175248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2"/>
            <p:cNvPicPr/>
            <p:nvPr/>
          </p:nvPicPr>
          <p:blipFill>
            <a:blip r:embed="rId4"/>
            <a:stretch/>
          </p:blipFill>
          <p:spPr>
            <a:xfrm>
              <a:off x="802656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4"/>
            <p:cNvPicPr/>
            <p:nvPr/>
          </p:nvPicPr>
          <p:blipFill>
            <a:blip r:embed="rId5"/>
            <a:stretch/>
          </p:blipFill>
          <p:spPr>
            <a:xfrm>
              <a:off x="8026560" y="571500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63868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8" descr="ti"/>
          <p:cNvPicPr/>
          <p:nvPr/>
        </p:nvPicPr>
        <p:blipFill>
          <a:blip r:embed="rId7"/>
          <a:stretch/>
        </p:blipFill>
        <p:spPr>
          <a:xfrm>
            <a:off x="762120" y="2743200"/>
            <a:ext cx="7696080" cy="1020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33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9500-B5E2-4B49-B342-74EE289B45B3}" type="slidenum">
              <a:rPr b="0" lang="en-US" sz="1200" spc="-1" strike="noStrike">
                <a:solidFill>
                  <a:srgbClr val="666633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kkang@lignex1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LIG</a:t>
            </a:r>
            <a:r>
              <a:rPr b="1" lang="ko-KR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넥스원 채용설명회 및 채용면담</a:t>
            </a:r>
            <a:endParaRPr b="0" lang="en-US" sz="36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214308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LIG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넥스원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2008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년 하반기 신입사원 공채와 관련하여 채용설명회 및 채용면담 일정을 아래와 같이 안내하오니 관심있는 학생분들의 많은 참석 바랍니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면담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5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수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~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0:00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~ 17:0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설명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6:00 ~ 17:3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장  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해림홀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정보통신공학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B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동 공동강의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모집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연구개발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R&amp;D)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품질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생산기술 등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공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자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컴퓨터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기계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산업공학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문  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서울 송지혜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2-2033-0573 / jhsongc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용인 강준구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31-288-9186 /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맑은 고딕"/>
                <a:ea typeface="맑은 고딕"/>
                <a:hlinkClick r:id="rId1"/>
              </a:rPr>
              <a:t>jkkang@lignex1.com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구미 박기철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54-469-8158 / kcpark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04:55:39Z</dcterms:created>
  <dc:creator>MAT</dc:creator>
  <dc:description/>
  <dc:language>en-US</dc:language>
  <cp:lastModifiedBy>김수연</cp:lastModifiedBy>
  <cp:lastPrinted>1999-10-01T05:06:01Z</cp:lastPrinted>
  <dcterms:modified xsi:type="dcterms:W3CDTF">2008-10-01T01:55:19Z</dcterms:modified>
  <cp:revision>139</cp:revision>
  <dc:subject/>
  <dc:title>슬라이드 제목 없음</dc:title>
</cp:coreProperties>
</file>